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7EDB-EBCE-4E9A-B635-52A10EA8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DA7D-D960-4BB2-86D4-FAEC741B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25E9-4D76-4E18-ADAC-CA3994F4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64AE-58B3-43E4-9270-967696D1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13D2-AE87-4D2D-B36F-22B0FEAE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101A-F80D-43F6-B297-B7CFDC65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5936-29A2-411E-AD38-219B1E91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36CF-341A-476B-8A7C-3FC66A22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7F2D-FDF7-4DE9-ABCB-D7C43FC9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3240-50FB-4E30-9525-E959FE4A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6205-092B-424B-9A22-8B751876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1496-3B7E-452E-ADF8-200F777C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FBAC-5CD2-4C94-BE68-B1C14BF8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CDF0-73A2-4C54-9637-3A4C737D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E675-7AAC-4208-A59C-AA3CB321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20C0-5D09-4DDB-BCCB-C3BCE004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203F-8907-4B19-AA5B-40C4D894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9A95-A1A0-477B-87AB-30A8535F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EC5-200F-460F-9124-4913D606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684A-439A-45DC-A367-EBC72FBC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71B3-0108-4098-8697-2AA945BF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DFA5-3591-476D-BD34-47AE8B4B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3732-9670-4D08-92AB-71CD19B6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0D68-5CAA-42AB-96F1-5D8B223F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929D-04CE-4F53-885E-68A302284FA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480" y="6480"/>
            <a:ext cx="9118440" cy="6832440"/>
            <a:chOff x="6480" y="6480"/>
            <a:chExt cx="9118440" cy="6832440"/>
          </a:xfrm>
        </p:grpSpPr>
        <p:grpSp>
          <p:nvGrpSpPr>
            <p:cNvPr id="6" name=""/>
            <p:cNvGrpSpPr/>
            <p:nvPr/>
          </p:nvGrpSpPr>
          <p:grpSpPr>
            <a:xfrm>
              <a:off x="6480" y="5340240"/>
              <a:ext cx="672840" cy="673200"/>
              <a:chOff x="6480" y="5340240"/>
              <a:chExt cx="672840" cy="673200"/>
            </a:xfrm>
          </p:grpSpPr>
          <p:sp>
            <p:nvSpPr>
              <p:cNvPr id="7" name=""/>
              <p:cNvSpPr/>
              <p:nvPr/>
            </p:nvSpPr>
            <p:spPr>
              <a:xfrm>
                <a:off x="6480" y="534024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58760" y="5492880"/>
                <a:ext cx="100080" cy="9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539640" y="5873760"/>
              <a:ext cx="292320" cy="291960"/>
              <a:chOff x="539640" y="5873760"/>
              <a:chExt cx="292320" cy="291960"/>
            </a:xfrm>
          </p:grpSpPr>
          <p:sp>
            <p:nvSpPr>
              <p:cNvPr id="10" name=""/>
              <p:cNvSpPr/>
              <p:nvPr/>
            </p:nvSpPr>
            <p:spPr>
              <a:xfrm>
                <a:off x="539640" y="5873760"/>
                <a:ext cx="292320" cy="291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06600" y="5940360"/>
                <a:ext cx="3780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131760" y="6039000"/>
              <a:ext cx="444600" cy="444240"/>
              <a:chOff x="131760" y="6039000"/>
              <a:chExt cx="444600" cy="444240"/>
            </a:xfrm>
          </p:grpSpPr>
          <p:sp>
            <p:nvSpPr>
              <p:cNvPr id="13" name=""/>
              <p:cNvSpPr/>
              <p:nvPr/>
            </p:nvSpPr>
            <p:spPr>
              <a:xfrm>
                <a:off x="131760" y="6039000"/>
                <a:ext cx="444600" cy="444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33280" y="6140520"/>
                <a:ext cx="619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476440" y="6470640"/>
              <a:ext cx="368280" cy="368280"/>
              <a:chOff x="2476440" y="6470640"/>
              <a:chExt cx="368280" cy="368280"/>
            </a:xfrm>
          </p:grpSpPr>
          <p:sp>
            <p:nvSpPr>
              <p:cNvPr id="16" name=""/>
              <p:cNvSpPr/>
              <p:nvPr/>
            </p:nvSpPr>
            <p:spPr>
              <a:xfrm>
                <a:off x="247644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560680" y="65548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19" name="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90360" y="45100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6559560" y="6102360"/>
              <a:ext cx="673200" cy="673200"/>
              <a:chOff x="6559560" y="6102360"/>
              <a:chExt cx="673200" cy="673200"/>
            </a:xfrm>
          </p:grpSpPr>
          <p:sp>
            <p:nvSpPr>
              <p:cNvPr id="22" name=""/>
              <p:cNvSpPr/>
              <p:nvPr/>
            </p:nvSpPr>
            <p:spPr>
              <a:xfrm>
                <a:off x="6559560" y="610236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6711840" y="6254640"/>
                <a:ext cx="10008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6178680" y="6407280"/>
              <a:ext cx="368280" cy="368280"/>
              <a:chOff x="6178680" y="6407280"/>
              <a:chExt cx="368280" cy="368280"/>
            </a:xfrm>
          </p:grpSpPr>
          <p:sp>
            <p:nvSpPr>
              <p:cNvPr id="25" name=""/>
              <p:cNvSpPr/>
              <p:nvPr/>
            </p:nvSpPr>
            <p:spPr>
              <a:xfrm>
                <a:off x="6178680" y="64072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262560" y="649116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7245360" y="6102360"/>
              <a:ext cx="368280" cy="368280"/>
              <a:chOff x="7245360" y="6102360"/>
              <a:chExt cx="368280" cy="368280"/>
            </a:xfrm>
          </p:grpSpPr>
          <p:sp>
            <p:nvSpPr>
              <p:cNvPr id="28" name=""/>
              <p:cNvSpPr/>
              <p:nvPr/>
            </p:nvSpPr>
            <p:spPr>
              <a:xfrm>
                <a:off x="7245360" y="61023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329600" y="6186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31" name="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23160" y="1927080"/>
                <a:ext cx="74880" cy="7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8693280" y="2521080"/>
              <a:ext cx="215640" cy="215640"/>
              <a:chOff x="8693280" y="2521080"/>
              <a:chExt cx="215640" cy="215640"/>
            </a:xfrm>
          </p:grpSpPr>
          <p:sp>
            <p:nvSpPr>
              <p:cNvPr id="34" name=""/>
              <p:cNvSpPr/>
              <p:nvPr/>
            </p:nvSpPr>
            <p:spPr>
              <a:xfrm>
                <a:off x="8693280" y="25210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744040" y="2571840"/>
                <a:ext cx="2520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" name=""/>
            <p:cNvGrpSpPr/>
            <p:nvPr/>
          </p:nvGrpSpPr>
          <p:grpSpPr>
            <a:xfrm>
              <a:off x="1378080" y="6480"/>
              <a:ext cx="520560" cy="520560"/>
              <a:chOff x="1378080" y="6480"/>
              <a:chExt cx="520560" cy="520560"/>
            </a:xfrm>
          </p:grpSpPr>
          <p:sp>
            <p:nvSpPr>
              <p:cNvPr id="37" name=""/>
              <p:cNvSpPr/>
              <p:nvPr/>
            </p:nvSpPr>
            <p:spPr>
              <a:xfrm>
                <a:off x="1378080" y="64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495440" y="12384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" name=""/>
            <p:cNvGrpSpPr/>
            <p:nvPr/>
          </p:nvGrpSpPr>
          <p:grpSpPr>
            <a:xfrm>
              <a:off x="1911240" y="158760"/>
              <a:ext cx="368280" cy="368280"/>
              <a:chOff x="1911240" y="158760"/>
              <a:chExt cx="368280" cy="368280"/>
            </a:xfrm>
          </p:grpSpPr>
          <p:sp>
            <p:nvSpPr>
              <p:cNvPr id="40" name=""/>
              <p:cNvSpPr/>
              <p:nvPr/>
            </p:nvSpPr>
            <p:spPr>
              <a:xfrm>
                <a:off x="1911240" y="1587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1995480" y="2430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6480" y="615960"/>
            <a:ext cx="9118440" cy="6222960"/>
            <a:chOff x="6480" y="615960"/>
            <a:chExt cx="9118440" cy="6222960"/>
          </a:xfrm>
        </p:grpSpPr>
        <p:grpSp>
          <p:nvGrpSpPr>
            <p:cNvPr id="79" name=""/>
            <p:cNvGrpSpPr/>
            <p:nvPr/>
          </p:nvGrpSpPr>
          <p:grpSpPr>
            <a:xfrm>
              <a:off x="6480" y="5340240"/>
              <a:ext cx="672840" cy="673200"/>
              <a:chOff x="6480" y="5340240"/>
              <a:chExt cx="672840" cy="673200"/>
            </a:xfrm>
          </p:grpSpPr>
          <p:sp>
            <p:nvSpPr>
              <p:cNvPr id="80" name=""/>
              <p:cNvSpPr/>
              <p:nvPr/>
            </p:nvSpPr>
            <p:spPr>
              <a:xfrm>
                <a:off x="6480" y="534024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58760" y="5492880"/>
                <a:ext cx="100080" cy="9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539640" y="5873760"/>
              <a:ext cx="292320" cy="291960"/>
              <a:chOff x="539640" y="5873760"/>
              <a:chExt cx="292320" cy="291960"/>
            </a:xfrm>
          </p:grpSpPr>
          <p:sp>
            <p:nvSpPr>
              <p:cNvPr id="83" name=""/>
              <p:cNvSpPr/>
              <p:nvPr/>
            </p:nvSpPr>
            <p:spPr>
              <a:xfrm>
                <a:off x="539640" y="5873760"/>
                <a:ext cx="292320" cy="291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06600" y="5940360"/>
                <a:ext cx="3780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151680" y="5734080"/>
              <a:ext cx="444240" cy="444600"/>
              <a:chOff x="6151680" y="5734080"/>
              <a:chExt cx="444240" cy="444600"/>
            </a:xfrm>
          </p:grpSpPr>
          <p:sp>
            <p:nvSpPr>
              <p:cNvPr id="86" name=""/>
              <p:cNvSpPr/>
              <p:nvPr/>
            </p:nvSpPr>
            <p:spPr>
              <a:xfrm>
                <a:off x="6151680" y="5734080"/>
                <a:ext cx="444240" cy="444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53200" y="5835600"/>
                <a:ext cx="619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476440" y="6470640"/>
              <a:ext cx="368280" cy="368280"/>
              <a:chOff x="2476440" y="6470640"/>
              <a:chExt cx="368280" cy="368280"/>
            </a:xfrm>
          </p:grpSpPr>
          <p:sp>
            <p:nvSpPr>
              <p:cNvPr id="89" name=""/>
              <p:cNvSpPr/>
              <p:nvPr/>
            </p:nvSpPr>
            <p:spPr>
              <a:xfrm>
                <a:off x="247644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560680" y="65548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92" name="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360" y="45100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5492880" y="615960"/>
              <a:ext cx="672840" cy="673200"/>
              <a:chOff x="5492880" y="615960"/>
              <a:chExt cx="672840" cy="673200"/>
            </a:xfrm>
          </p:grpSpPr>
          <p:sp>
            <p:nvSpPr>
              <p:cNvPr id="95" name=""/>
              <p:cNvSpPr/>
              <p:nvPr/>
            </p:nvSpPr>
            <p:spPr>
              <a:xfrm>
                <a:off x="5492880" y="61596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645160" y="768240"/>
                <a:ext cx="10008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5111640" y="920880"/>
              <a:ext cx="368280" cy="368280"/>
              <a:chOff x="5111640" y="920880"/>
              <a:chExt cx="368280" cy="368280"/>
            </a:xfrm>
          </p:grpSpPr>
          <p:sp>
            <p:nvSpPr>
              <p:cNvPr id="98" name=""/>
              <p:cNvSpPr/>
              <p:nvPr/>
            </p:nvSpPr>
            <p:spPr>
              <a:xfrm>
                <a:off x="5111640" y="9208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95880" y="100476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178680" y="615960"/>
              <a:ext cx="368280" cy="368280"/>
              <a:chOff x="6178680" y="615960"/>
              <a:chExt cx="368280" cy="368280"/>
            </a:xfrm>
          </p:grpSpPr>
          <p:sp>
            <p:nvSpPr>
              <p:cNvPr id="101" name=""/>
              <p:cNvSpPr/>
              <p:nvPr/>
            </p:nvSpPr>
            <p:spPr>
              <a:xfrm>
                <a:off x="6178680" y="6159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262560" y="7002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104" name="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723160" y="1927080"/>
                <a:ext cx="74880" cy="7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8693280" y="2521080"/>
              <a:ext cx="215640" cy="215640"/>
              <a:chOff x="8693280" y="2521080"/>
              <a:chExt cx="215640" cy="215640"/>
            </a:xfrm>
          </p:grpSpPr>
          <p:sp>
            <p:nvSpPr>
              <p:cNvPr id="107" name=""/>
              <p:cNvSpPr/>
              <p:nvPr/>
            </p:nvSpPr>
            <p:spPr>
              <a:xfrm>
                <a:off x="8693280" y="25210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744040" y="2571840"/>
                <a:ext cx="2520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225440" y="1225440"/>
              <a:ext cx="520920" cy="520920"/>
              <a:chOff x="1225440" y="1225440"/>
              <a:chExt cx="520920" cy="520920"/>
            </a:xfrm>
          </p:grpSpPr>
          <p:sp>
            <p:nvSpPr>
              <p:cNvPr id="110" name=""/>
              <p:cNvSpPr/>
              <p:nvPr/>
            </p:nvSpPr>
            <p:spPr>
              <a:xfrm>
                <a:off x="1225440" y="1225440"/>
                <a:ext cx="520920" cy="5209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343160" y="1343160"/>
                <a:ext cx="75960" cy="75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1758960" y="1378080"/>
              <a:ext cx="368280" cy="368280"/>
              <a:chOff x="1758960" y="1378080"/>
              <a:chExt cx="368280" cy="368280"/>
            </a:xfrm>
          </p:grpSpPr>
          <p:sp>
            <p:nvSpPr>
              <p:cNvPr id="113" name=""/>
              <p:cNvSpPr/>
              <p:nvPr/>
            </p:nvSpPr>
            <p:spPr>
              <a:xfrm>
                <a:off x="1758960" y="13780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843200" y="146196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AB05-9CC7-4554-95F9-67A1B5224E1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3:11Z</dcterms:modified>
  <cp:revision>16</cp:revision>
  <dc:subject/>
  <dc:title>幻灯片 1</dc:title>
</cp:coreProperties>
</file>